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9A5-806E-4346-8FCE-6C96A93F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46F-A247-4E9E-B7F1-76D76974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FDC-AC91-4783-837D-74587D20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7B66-4835-428D-901A-F0F415E4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6A9-487A-4EAF-BF1F-2023657F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D34-75E5-4F8A-9AFA-6948BF79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711-C555-4A89-B05C-75CA3C97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8019-A344-49B7-9BE3-51473B2F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3266-68AE-4616-ADA3-F10D570C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1E5-BF1E-42FA-84D8-9059DF87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491-6F4F-4C2B-91B7-3C560299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327-3BF5-4DFF-A653-EE9D80A8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DA38-DB9F-4D56-8F62-CCC4ED870C9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UNIONES DE TRABAJ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500120" y="357120"/>
          <a:ext cx="5527800" cy="4564080"/>
        </p:xfrm>
        <a:graphic>
          <a:graphicData uri="http://schemas.openxmlformats.org/drawingml/2006/table">
            <a:tbl>
              <a:tblPr/>
              <a:tblGrid>
                <a:gridCol w="1214640"/>
                <a:gridCol w="4313160"/>
              </a:tblGrid>
              <a:tr h="341640">
                <a:tc gridSpan="2"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POLOGÍA DE LOS PARTICIP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I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RA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ím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straí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gunt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udo volun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i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scuti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naz (Obstinad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beloto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214720" y="571680"/>
          <a:ext cx="5233680" cy="5622840"/>
        </p:xfrm>
        <a:graphic>
          <a:graphicData uri="http://schemas.openxmlformats.org/drawingml/2006/table">
            <a:tbl>
              <a:tblPr/>
              <a:tblGrid>
                <a:gridCol w="1357200"/>
                <a:gridCol w="3876480"/>
              </a:tblGrid>
              <a:tr h="320040">
                <a:tc gridSpan="2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POLOGÍA DE LOS PARTICIP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I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RA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ím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vitarle a aportar sus ideas, reforzando sus resp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cer referencia a sus aportaciones a largo de la reun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straí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trolarlo mirándolo con frecu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guntas directas (diciendo primero su nomb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cerle participar contrastando su opinión con la de los dem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gunt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lantear al grupo las preguntas que hace al moderador o hacer que el las respo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curar no responder de inmediato sus preguntas, aplazarlas al fi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udo volun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cerle preguntas directas, especialmente con cuestiones complej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ometer sus opiniones al juicio del gru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i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terrumpir educadamente su exposi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frontar su opinión con la del gru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scuti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 involucrarse en la discusión, excusando falta de tiempo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nfrentar su opinión a la del gru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naz (Obstinad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seguir acuerdos parciales y progres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ormular con claridad su opinión y plantearla al gru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beloto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forzar las intervenciones de otros miembros contrarias a la suy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ormularle problemas y preguntas difíci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vizar su punto de vista, presentándolo como un m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NVOCATORIA REUN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stimados/as alumnos/a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convoca  alumnado del Ciclo Formativo de Grado Superior de Automoción que cursan el módulo de FOL,  a la reunión que se celebrara el dí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6 de abril de 201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en el aula 1 del Taller de Automoción del IES Parque Aluche de Madrid. La reunión se iniciará a las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17:50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teniendo una duración aproximada de 50 minutos, con el siguiente ORDEN DEL DÍ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ectura y aprobación, si procede, del orden del d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alizar la dinámica de los cuadr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osiciones de dos grupos de alumn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rregir el ejercicio de la tipología de partip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esentar el tema Reuniones de trabaj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uegos y Pregun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n Madrid a 6 de abr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do: Alejandro Merino Sánchez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ofesor de Fo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CTA DE LA REUNIÓN CELEBRADA EL DÍA 6 DE ABRIL DE 201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e inicia la reunión siendo las 17:55, con un 50 % de los convocados, posteriormente se incorporan otros alumnos, la reunión es coordinada por el profesor, quien cede la palabra a uno de los alumnos que es el encargado de leer el orden del día, tras su lectura y con algunas aclaraciones,  se somete a votación por parte del profesor,  es aprobado por unanimida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e pasa al segundo punto del orden del día y se procede a la realización de la dinámica de los cuadrados por un grupo de alumnos, el resto obser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osteriormente los alumnos suben al aula de ordenadores en la que dos grupos exponen sus trabajos, sobre la planificación del trabajo en grup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n el siguiente punto del orden del día se corrige el ejercicio de la tipología de participantes en los grupos o reuniones de trabaj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or último el profesor presenta el tema de reuniones de trabajo que se comenzará la próxima sema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ara concluir la reunión se abre el turno de ruegos y preguntas, en que uno de los alumnos ruega que se pueda salir al descanso; terminando la reunión siendo las 18:3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D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1.- CONCEPTO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2.- FUNCION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3.- TIPOS DE REUNIONES 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4.- FASES DE UNA REUNIÓN DE TRABAJ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5.- PREGUNTAS PARA MODERAR UNA REUNIÓ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6.- TIPOLOGÍA DE PARTICIPANT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¿Qué es una reunión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- CONCEPTO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reunión de trabajo es una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écnic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que permite que personas con objetivos comunes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cambien información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 lleguen a compromisos colectivos para conseguir las metas fijada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¿Para qué se hace una reunión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NCIONE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undir inform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er opin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izar y resolver proble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mar decis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bajar en equip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isfacer necesidades humanas de afiliación y conta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357200" y="1397160"/>
          <a:ext cx="5832720" cy="4282920"/>
        </p:xfrm>
        <a:graphic>
          <a:graphicData uri="http://schemas.openxmlformats.org/drawingml/2006/table">
            <a:tbl>
              <a:tblPr/>
              <a:tblGrid>
                <a:gridCol w="1643040"/>
                <a:gridCol w="2730600"/>
                <a:gridCol w="1459080"/>
              </a:tblGrid>
              <a:tr h="274320"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ARACTER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16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SCEND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derado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de la reunió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form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a los asistentes (ordenes, normativas nuevas, cambios de objetivos...) y lo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sistentes se limitan a escuchar e intervenir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únicamente, para solicitar aclaraciones sobre la información facilitad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CEND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n éstas reuniones el moderador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caba informació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de los asistentes: opiniones, datos, impresiones, causas de un determinado funcionamiento, etc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B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uando la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formació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circula de forma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orizontal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entre los participantes. El objetivo de estas reuniones es analizar un tema en común y llegar a conclusiones o acciones aceptadas por todos. Todos los participantes en la reunión tienen voz y vot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AutoShape 6"/>
          <p:cNvSpPr/>
          <p:nvPr/>
        </p:nvSpPr>
        <p:spPr>
          <a:xfrm>
            <a:off x="1928880" y="2357280"/>
            <a:ext cx="571320" cy="500400"/>
          </a:xfrm>
          <a:prstGeom prst="downArrow">
            <a:avLst>
              <a:gd name="adj1" fmla="val 50000"/>
              <a:gd name="adj2" fmla="val 4725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1785960" y="3500280"/>
            <a:ext cx="571320" cy="500400"/>
          </a:xfrm>
          <a:prstGeom prst="upArrow">
            <a:avLst>
              <a:gd name="adj1" fmla="val 36667"/>
              <a:gd name="adj2" fmla="val 3433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1785960" y="4786200"/>
            <a:ext cx="685800" cy="8002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2"/>
          <p:cNvGraphicFramePr/>
          <p:nvPr/>
        </p:nvGraphicFramePr>
        <p:xfrm>
          <a:off x="5929200" y="1785960"/>
          <a:ext cx="11048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9200" y="1785960"/>
                    <a:ext cx="11048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3"/>
          <p:cNvGraphicFramePr/>
          <p:nvPr/>
        </p:nvGraphicFramePr>
        <p:xfrm>
          <a:off x="6000840" y="3214800"/>
          <a:ext cx="928440" cy="85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0840" y="3214800"/>
                    <a:ext cx="92844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4"/>
          <p:cNvGraphicFramePr/>
          <p:nvPr/>
        </p:nvGraphicFramePr>
        <p:xfrm>
          <a:off x="5929200" y="4357800"/>
          <a:ext cx="110484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29200" y="4357800"/>
                    <a:ext cx="11048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8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0 Rectángulo"/>
          <p:cNvSpPr/>
          <p:nvPr/>
        </p:nvSpPr>
        <p:spPr>
          <a:xfrm>
            <a:off x="1643040" y="714240"/>
            <a:ext cx="5000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IPOS DE REUN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367000" y="1397160"/>
          <a:ext cx="4408560" cy="4572000"/>
        </p:xfrm>
        <a:graphic>
          <a:graphicData uri="http://schemas.openxmlformats.org/drawingml/2006/table">
            <a:tbl>
              <a:tblPr/>
              <a:tblGrid>
                <a:gridCol w="903240"/>
                <a:gridCol w="3505320"/>
              </a:tblGrid>
              <a:tr h="549000"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09760"/>
                          <a:tab algn="ctr" pos="1957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specto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tener en cue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09760"/>
                          <a:tab algn="ctr" pos="1957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09760"/>
                          <a:tab algn="ctr" pos="1957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3000"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lección del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finición de los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bjetivo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de la reun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paración de la informació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se prepararán los   documentos que se entregan a los asistentes y el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rden del d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terminación de los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sist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cursos materiale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local (cómodo, bien iluminado, sin ruidos) equipos auxiliares (pizarra, diapositivas, transparencias, video, etc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vocatoria de la reunió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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echa, hora, duración y lug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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ma y objetivos (dossier informativ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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ista de participantes y breve presentación de cada uno (si no se conoc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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rden del d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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etición de la confirmación de asis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terminación del tiempo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 duración aconsejada es de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a a dos hora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2 Rectángulo"/>
          <p:cNvSpPr/>
          <p:nvPr/>
        </p:nvSpPr>
        <p:spPr>
          <a:xfrm>
            <a:off x="2071800" y="714240"/>
            <a:ext cx="50004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FASES DE UNA REUN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714680" y="1143000"/>
          <a:ext cx="5689440" cy="5029200"/>
        </p:xfrm>
        <a:graphic>
          <a:graphicData uri="http://schemas.openxmlformats.org/drawingml/2006/table">
            <a:tbl>
              <a:tblPr/>
              <a:tblGrid>
                <a:gridCol w="960120"/>
                <a:gridCol w="1098720"/>
                <a:gridCol w="3630600"/>
              </a:tblGrid>
              <a:tr h="639720">
                <a:tc>
                  <a:txBody>
                    <a:bodyPr lIns="33840" rIns="33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3840" rIns="33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AP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8160">
                <a:tc rowSpan="2">
                  <a:txBody>
                    <a:bodyPr lIns="33840" rIns="338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B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cogida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Breve presentación de los participantes, si no se conocen. El moderador justifica su presencia y lo que espera de ell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sentación del tema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Se señala con precisión los objetivos y se fija el proceso que se seguirá para tratar el tem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arrollo del debate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se sigue el orden de intervención establecido, respetando los tiempos y garantizando la participación de los asistent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ierre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se resumen de los acuerdos alcanzad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CEND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ransmisión de Información: En esta etapa el moderador comienza justificando la reunión. A continuación se exponen los objetivos de la reunión y se da la información que se deseaba transmitir a los participant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firmación: en esta segunda etapa se confirma que se ha entendido la información transmitida, aclarando las dudas mediante turnos de ruegos y pregunt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2 Rectángulo"/>
          <p:cNvSpPr/>
          <p:nvPr/>
        </p:nvSpPr>
        <p:spPr>
          <a:xfrm>
            <a:off x="2071800" y="285840"/>
            <a:ext cx="50004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FASES DE UNA REUN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571760" y="1214280"/>
          <a:ext cx="6429240" cy="4091040"/>
        </p:xfrm>
        <a:graphic>
          <a:graphicData uri="http://schemas.openxmlformats.org/drawingml/2006/table">
            <a:tbl>
              <a:tblPr/>
              <a:tblGrid>
                <a:gridCol w="1357200"/>
                <a:gridCol w="5072040"/>
              </a:tblGrid>
              <a:tr h="18288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I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ARACTER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ener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rigida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do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los asistentes. Su finalidad es recoger información y estimular la particip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rec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ormulada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u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participante concreto. Tiene como finalidad fomentar la participación, hacer intervenir a todos o conocer la opinión del preguntad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bier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rigidas a todos y cada uno de los participantes. Pretenden incitar a la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reatividad y a la reflexió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de los asistent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err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dmiten como respuesta un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"si"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o un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"no".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Pretenden conocer o definir posturas u optar por una alternativ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formul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l moderador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vuelv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la cuestión que se ha  planteado, "parafraseandola". Son útiles para verificar que la pregunta se ha comprendido correctamente y para demostrar una actitud de escuch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2 Rectángulo"/>
          <p:cNvSpPr/>
          <p:nvPr/>
        </p:nvSpPr>
        <p:spPr>
          <a:xfrm>
            <a:off x="2071800" y="214200"/>
            <a:ext cx="50004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PREGUNTAS PARA MODER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500120" y="357120"/>
          <a:ext cx="5527800" cy="5335560"/>
        </p:xfrm>
        <a:graphic>
          <a:graphicData uri="http://schemas.openxmlformats.org/drawingml/2006/table">
            <a:tbl>
              <a:tblPr/>
              <a:tblGrid>
                <a:gridCol w="1214640"/>
                <a:gridCol w="4313160"/>
              </a:tblGrid>
              <a:tr h="320040">
                <a:tc gridSpan="2"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POLOGÍA DE LOS PARTICIP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I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ARACTER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ím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 se atreve a participar por falta de seguridad en sí mismo o por miedo a los dem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ento pero callado, con capacidad de escuc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straí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 sigue el desarrollo de la reunión está pensando en otra co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s intervenciones suelen estar desligadas del t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tenta distraer a los dem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gunt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ce preguntas comprometedoras para conocer la opinión del mode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frece su punto de vista como crítica al del mode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udo volun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 niega participar porque se sobrevalora y desprecia el trabajo del gru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iensa que la reunión es una perdida de ti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i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longa la reunión más de lo necesario, vuelve a temas que ya estaban cer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vía la conversación y se pierde en detalles sin importa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scuti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pone un pero a todas las proposi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rea tensión: pasa de discutir aspectos técnicos a ataques persona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naz (Obstinad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iere tener siempre la razón y pretende imponer su crite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sidera enemigo a los que discrepan de su opin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beloto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rata de impresionar con sus conocimi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bla de todos los temas y tiene todas las solu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empre le ha pasado o ha leído algo parecido             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4:42:57Z</dcterms:created>
  <dc:creator>TARDE</dc:creator>
  <dc:description/>
  <dc:language>en-US</dc:language>
  <cp:lastModifiedBy>Consejeria de Educacion de Comunidad de Madrid</cp:lastModifiedBy>
  <dcterms:modified xsi:type="dcterms:W3CDTF">2011-04-20T16:34:30Z</dcterms:modified>
  <cp:revision>12</cp:revision>
  <dc:subject/>
  <dc:title>REUNIONES DE TRABAJO</dc:title>
</cp:coreProperties>
</file>